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6AFC5-9FF3-45AE-8CD9-D6EA35709F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77F3E-E57C-450F-B08B-EB8D8FC40C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F4DAE-AC18-4778-9EBF-8D671F72DA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FC8FE-1DFD-4C8D-8E41-36D3A1D46C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744A9-4C7B-4313-B23D-B64E5E2CFC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B4588-2CA4-403F-B82A-EEEB8FDA3E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2CA68-F3F6-4572-9646-A236C69C32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A92DF-0BF0-4281-85FC-A58CE192DE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B68D5-FB14-4AAD-8703-E6BBD810F3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3EC4A-3D92-4E80-BE7D-AFEAA67A2F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32F4E-06A7-4D65-8444-513F6B5127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92D2B-853E-49E8-B99D-B58AB7F7DA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FA32-D933-4514-8C97-61FF241589B4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2728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time Messaging Solutions </a:t>
            </a:r>
            <a:br>
              <a:rPr sz="2400"/>
            </a:br>
            <a:br>
              <a:rPr sz="1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ud Blankenship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reau of Customs and Border Protectio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 of Homel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Idiosyncras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Seg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Special Hand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Automated Re-Send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’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articipation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ertification and Testing Req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sponse Turna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Outage Sched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P Automated Re-Send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Help Desk / Tech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’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 Implementation Guide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stablish Ground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ssage Group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ssage Ver/release(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limi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mission Size Lim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yntax Compliance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ta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pplication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ystem Design Consid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Backup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archiv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of Work and Synchpoi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Message Rou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ingle 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ple Targ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Logging in the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Recovery / Restart / Re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F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-task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-thre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con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030400" y="2563560"/>
            <a:ext cx="447048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Customs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14480" y="13410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n a Typical Day 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.S. Customs Service examines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.3 Million Passen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60,000 Trucks/Contai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348,000 Vehi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500 Vess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2600 Airc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ffects the following enforcement a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65 Arr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18 Narcotics Seiz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28 Other Seizures (Conveyances, Ammunition, Commercial Merchandise, Real Estate, Firearms and Weapons, Child Pornograph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1 Currency Seiz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889fb"/>
                </a:solidFill>
                <a:latin typeface="Arial"/>
              </a:rPr>
              <a:t>A Day in the Life of Customs</a:t>
            </a: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400800" y="1370160"/>
            <a:ext cx="224640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Environment - Trade,  Enforcement, EDW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 - Storag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Interfa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MQ Se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Translation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ed Forma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X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N/Edi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ixed - Propriet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Trade Systems Environm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0" y="31496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46520" y="3149640"/>
            <a:ext cx="1371600" cy="1295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01800" y="13460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6880" y="18795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38760" y="1320840"/>
            <a:ext cx="1447920" cy="1447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74920" y="4826160"/>
            <a:ext cx="1447920" cy="12189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TE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00800" y="36068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40640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45212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4600" y="25653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4600" y="32511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654280" y="1905120"/>
            <a:ext cx="4114080" cy="533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725480" y="4141440"/>
            <a:ext cx="928800" cy="1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7360" y="3003480"/>
            <a:ext cx="110628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41480" y="2446200"/>
            <a:ext cx="136044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19400" y="1925640"/>
            <a:ext cx="151272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5880" y="4987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276876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11960" y="5384880"/>
            <a:ext cx="3200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 Server Fa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s Internal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3759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35160" y="307332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54880" y="1244520"/>
            <a:ext cx="609480" cy="533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57840" y="1981080"/>
            <a:ext cx="239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M MVS OS390 zOS Enterprise Serv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9880" y="3962520"/>
            <a:ext cx="1371600" cy="76176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GA’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27360" y="3597120"/>
            <a:ext cx="941400" cy="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- CICS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Proces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Demand Load Bal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-Plex - 24x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orag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-Dataco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665440" y="517356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65440" y="40942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65440" y="30272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65440" y="2214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Trade Systems Communic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63760" y="4686480"/>
            <a:ext cx="2438640" cy="9903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l U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53080" y="1714680"/>
            <a:ext cx="2210040" cy="38811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65640" y="3695760"/>
            <a:ext cx="2438280" cy="990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dicated Le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 - 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63760" y="2705040"/>
            <a:ext cx="2438640" cy="990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d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65640" y="1714680"/>
            <a:ext cx="2438280" cy="9903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Q Frame R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1638360"/>
            <a:ext cx="2209680" cy="3933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- 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Messaging Solu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30240" y="1649160"/>
            <a:ext cx="527688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this gu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tim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e do it at Cus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Q Series - Benef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Messaging Solution - Internal/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ing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 Independence / Distrib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gered Transl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 Tas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MQ Frame Relay Topograph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211480" y="2913120"/>
            <a:ext cx="1857240" cy="1895040"/>
            <a:chOff x="2211480" y="2913120"/>
            <a:chExt cx="1857240" cy="189504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2211480" y="2913120"/>
              <a:ext cx="1857240" cy="18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033000" y="3258360"/>
              <a:ext cx="18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614680" y="3205080"/>
            <a:ext cx="93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Sprin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314964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19920" y="132084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86600" y="28447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6735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867280" y="2387160"/>
            <a:ext cx="53352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43600" y="42163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324480" y="3759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34880" y="162720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288288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652760" y="4027320"/>
            <a:ext cx="531720" cy="26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9400" y="3524400"/>
            <a:ext cx="482760" cy="12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041720" y="3751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620120" y="40636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7391520" y="246384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160" y="416880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52480" y="2401920"/>
            <a:ext cx="725760" cy="63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06360" y="5019840"/>
            <a:ext cx="1371600" cy="99036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282760" y="4500360"/>
            <a:ext cx="273240" cy="307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Environm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nty-Two CICS EDI Translation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oftware - EDI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ataInterchang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Host MVS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“HOT” DI Shop Since 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637000" y="1806480"/>
            <a:ext cx="693720" cy="1981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Gateway - (EDI Server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343320" y="1801800"/>
            <a:ext cx="2274840" cy="16606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05400" y="1749600"/>
            <a:ext cx="178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 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351240" y="3022560"/>
            <a:ext cx="2244600" cy="836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nter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44400" y="2332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ammed Interfa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29320" y="1812960"/>
            <a:ext cx="693720" cy="1952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183440" y="2355840"/>
            <a:ext cx="1219320" cy="914400"/>
          </a:xfrm>
          <a:prstGeom prst="flowChartDocumen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w App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20120" y="371304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96080" y="518004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53240" y="445140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05000" y="395136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09920" y="528948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54360" y="461952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01320" y="530388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7040" y="2263680"/>
            <a:ext cx="1219320" cy="914400"/>
          </a:xfrm>
          <a:prstGeom prst="flowChartDocumen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1080" y="4863960"/>
            <a:ext cx="1074600" cy="1111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820800" y="3236760"/>
            <a:ext cx="1440" cy="13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38440" y="2581200"/>
            <a:ext cx="82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92960" y="2604960"/>
            <a:ext cx="63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262560" y="3282840"/>
            <a:ext cx="1067040" cy="158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5800" y="3435480"/>
            <a:ext cx="31608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8103960" y="3146400"/>
            <a:ext cx="111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430280" y="3110040"/>
            <a:ext cx="1800" cy="71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587760" y="1951200"/>
            <a:ext cx="69372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87960" y="1946160"/>
            <a:ext cx="185256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88400" y="2846520"/>
            <a:ext cx="164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7636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6196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5260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148440" y="1957320"/>
            <a:ext cx="693720" cy="3554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EDI Translation Gateway - Typical Application Interfac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48640" y="1952640"/>
            <a:ext cx="1852560" cy="3581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540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540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9540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576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03360" y="2752560"/>
            <a:ext cx="1741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* 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587760" y="1951200"/>
            <a:ext cx="69372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87960" y="1946160"/>
            <a:ext cx="118404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40080" y="2919240"/>
            <a:ext cx="128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7636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7636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6196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5260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50040" y="1944720"/>
            <a:ext cx="65556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EDI Translation Gateway - Export System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48640" y="1927080"/>
            <a:ext cx="185256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9540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9540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9540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540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576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39520" y="1951200"/>
            <a:ext cx="119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or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719680" y="3189240"/>
            <a:ext cx="534960" cy="306360"/>
            <a:chOff x="5719680" y="3189240"/>
            <a:chExt cx="534960" cy="306360"/>
          </a:xfrm>
        </p:grpSpPr>
        <p:sp>
          <p:nvSpPr>
            <p:cNvPr id="310" name=""/>
            <p:cNvSpPr/>
            <p:nvPr/>
          </p:nvSpPr>
          <p:spPr>
            <a:xfrm>
              <a:off x="5719680" y="318924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897520" y="344304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97520" y="339228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897520" y="334152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97520" y="329076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705640" y="4059360"/>
            <a:ext cx="534960" cy="306360"/>
            <a:chOff x="5705640" y="4059360"/>
            <a:chExt cx="534960" cy="306360"/>
          </a:xfrm>
        </p:grpSpPr>
        <p:sp>
          <p:nvSpPr>
            <p:cNvPr id="316" name=""/>
            <p:cNvSpPr/>
            <p:nvPr/>
          </p:nvSpPr>
          <p:spPr>
            <a:xfrm>
              <a:off x="5705640" y="405936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883480" y="431316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83480" y="426240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83480" y="421164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83480" y="416088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740560" y="4946760"/>
            <a:ext cx="534960" cy="306360"/>
            <a:chOff x="5740560" y="4946760"/>
            <a:chExt cx="534960" cy="306360"/>
          </a:xfrm>
        </p:grpSpPr>
        <p:sp>
          <p:nvSpPr>
            <p:cNvPr id="322" name=""/>
            <p:cNvSpPr/>
            <p:nvPr/>
          </p:nvSpPr>
          <p:spPr>
            <a:xfrm>
              <a:off x="5740560" y="494676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18400" y="520056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18400" y="514980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918400" y="509904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18400" y="504828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6107040" y="3160800"/>
            <a:ext cx="25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Raw EDI Image 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237360" y="393876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Application Data Queu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262200" y="4973760"/>
            <a:ext cx="243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Warning Messages 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51920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1920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0480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49544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19520" y="1957320"/>
            <a:ext cx="693720" cy="3554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Gateway - AMS Appl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1571760"/>
            <a:ext cx="5257800" cy="44956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92800" y="561024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CS Mainframe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19720" y="1952640"/>
            <a:ext cx="4190760" cy="3581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3824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3824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3824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3824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22880" y="1952640"/>
            <a:ext cx="45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Manifest System Applic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94240" y="3009960"/>
            <a:ext cx="693720" cy="250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1200" y="3011400"/>
            <a:ext cx="1401480" cy="2514600"/>
            <a:chOff x="6091200" y="3011400"/>
            <a:chExt cx="1401480" cy="2514600"/>
          </a:xfrm>
        </p:grpSpPr>
        <p:sp>
          <p:nvSpPr>
            <p:cNvPr id="347" name=""/>
            <p:cNvSpPr/>
            <p:nvPr/>
          </p:nvSpPr>
          <p:spPr>
            <a:xfrm>
              <a:off x="6091200" y="3011400"/>
              <a:ext cx="1401480" cy="2514600"/>
            </a:xfrm>
            <a:prstGeom prst="rect">
              <a:avLst/>
            </a:prstGeom>
            <a:gradFill rotWithShape="0">
              <a:gsLst>
                <a:gs pos="0">
                  <a:srgbClr val="7889fb"/>
                </a:gs>
                <a:gs pos="50000">
                  <a:srgbClr val="66ffff"/>
                </a:gs>
                <a:gs pos="100000">
                  <a:srgbClr val="7889fb"/>
                </a:gs>
              </a:gsLst>
              <a:lin ang="5400000"/>
            </a:gradFill>
            <a:ln w="12600">
              <a:solidFill>
                <a:srgbClr val="0606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91200" y="3620880"/>
              <a:ext cx="131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60606"/>
                  </a:solidFill>
                  <a:latin typeface="Times New Roman"/>
                </a:rPr>
                <a:t>EDI Translation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60606"/>
                  </a:solidFill>
                  <a:latin typeface="Times New Roman"/>
                </a:rPr>
                <a:t>Gatewa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7493040" y="3003480"/>
            <a:ext cx="693720" cy="25005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teworthy …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d Translation and Applic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Running CICS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 &amp; Post Translate Images Available to A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threaded Copies of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 thru MQMD-Msg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ends &amp; “Hot Stuff”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s Modernization eC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756720" y="2131920"/>
            <a:ext cx="73486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Resumés  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’ Middleware/EDI Team Roles and Responsibiliti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14480" y="1527120"/>
            <a:ext cx="73483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intain EDI Gateway Architecture - EDI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Environment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Platforms &amp; Triggered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ed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ataInterchange  (DI)  Software &amp;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2 &amp; EDIFACT Standards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Monitoring /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ading Partner Enab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Frame Relay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964120" y="377820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’ Middleware/EDI Team Roles and Responsibiliti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intain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Server - Appl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I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(MQ Frame Relay, SNA, Dial, VA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chitect / Re-Engineer / Tune   EDI Processing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oubleshoot Messaging Problems (Internal/Exte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DI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ison to X12  (XML Design eff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Customs IG Data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Mapping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964120" y="377820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93760" y="2359080"/>
            <a:ext cx="4475160" cy="32367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7280" y="3162240"/>
            <a:ext cx="1303200" cy="21654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04760" y="1920960"/>
            <a:ext cx="4707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3240" y="2705040"/>
            <a:ext cx="1249560" cy="2146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Part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A Sol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84920" y="3357720"/>
            <a:ext cx="1303200" cy="21222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* *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M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00920" y="2374920"/>
            <a:ext cx="16128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ICS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SQ/TD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AEM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- Listen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riggered Batch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racle / DB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Script/Event Trigg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8200" y="154296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ssage Fl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12920" y="4221000"/>
            <a:ext cx="6364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94080" y="4673520"/>
            <a:ext cx="636840" cy="0"/>
          </a:xfrm>
          <a:prstGeom prst="line">
            <a:avLst/>
          </a:prstGeom>
          <a:ln w="19080">
            <a:solidFill>
              <a:srgbClr val="00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004760" y="1920960"/>
            <a:ext cx="4707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Another Sol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83440" y="1492200"/>
            <a:ext cx="16128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ICS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SQ/TD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AEM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- Listen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iggered Batch 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Oracle / DB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Script/Event Trigg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8200" y="154296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ssage Fl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24080" y="2359080"/>
            <a:ext cx="5051160" cy="32367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03240" y="2705040"/>
            <a:ext cx="1249560" cy="2146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Part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2640" y="3170160"/>
            <a:ext cx="1303200" cy="21225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* *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M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7720" y="4659480"/>
            <a:ext cx="16174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64280" y="4375080"/>
            <a:ext cx="1303200" cy="1430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12920" y="4221000"/>
            <a:ext cx="8812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now .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Trading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at it takes to build a Bulletproof Real-tim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22400" y="698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19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the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ize &amp;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ystem Critic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latforms / 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vity / Communications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LC - Development thru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ing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sponse-based vs. One-Wa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Set(s)  /  Version Releases / DMR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Sizes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ware 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dleware 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Syntax Compliance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ax Error Toler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Acknowledg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of Trading Partner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 Authentication -  D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5:56Z</dcterms:modified>
  <cp:revision>895</cp:revision>
  <dc:subject/>
  <dc:title>IBM Software Group</dc:title>
</cp:coreProperties>
</file>